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E148-9F74-4687-B19B-B57C21822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3E73-B753-4B3B-BE0F-76F4643AC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994E-E934-4C21-AAAA-DE9397FAB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"/>
          <p:cNvSpPr/>
          <p:nvPr/>
        </p:nvSpPr>
        <p:spPr>
          <a:xfrm>
            <a:off x="304920" y="6172200"/>
            <a:ext cx="165708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304920" y="6172200"/>
            <a:ext cx="165708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11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fiv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ing a h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uying a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1: determine home-ownership nee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housing should I buy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can I afford to spen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2: locate and evaluate a hom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re do I want to liv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spects of the home need improve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3: price the proper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an appropriate market pric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negotiation movement exist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4: obtain financ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down payment is availabl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re current mortgage rate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an I qualify for a mortgag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mortgage should I ge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5: close the purchase transac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the closing dat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funds and documents will be needed for the clos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s everything understood before the final sign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713268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qualifying for a mortgag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ermine the estimated value of the home you would like to purcha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funds for a down payment from savings or through gifts or loans from family memb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other debts or improve your credit record, if necess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e fees, services, and mortgage rates for different lend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pare the mortgage applic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mortgage acceptance will be based on your credit reco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of the mortgage for which you qualify will be influenced b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available for a down pay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13808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mortgag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xed-rate, fixed-payment mortg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3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15- or 2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HA/VA fixed-rat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lloon” loan (3-10 year term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justable-rate, variable paymen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justable-rate mortgage (AR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duated-payment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ing-equity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ther financing method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ydow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ared-appreciation mortgage (SA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-mortgage (home equity loa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ers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anc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127640" y="6323400"/>
            <a:ext cx="158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osing cos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 the real estate transaction settlement, commonly referred to as the “closing” the following are some costs that are typically incurred by a person buying a hom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search fee ($10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insurance ($300-$2,0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orney fees ($200-$7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aisal fee ($300-$5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cording fees and transfer taxes ($5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 report ($25-$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ite inspection ($50-$1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der</a:t>
            </a:r>
            <a:r>
              <a:rPr b="0" lang="ja-JP" sz="1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 origination fee (1-3% of loan amou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rves for home insurance and property taxes (amount va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paid in advance (if applicab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12800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lling your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putting your home on the market, make any preparations that could increase appeal and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necessary rep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int exterior and interior are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date various features (such as new carpeting or plumbing fixtur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termine the selling price, bas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appraisal to estimate current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ocation, features, and age of the h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 and market demand in your 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e if you will do a "sale by owner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ertise your home in various media (e.g., newspapers, Internet, flyer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 ready to meet and show your home to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use of the services of a lawyer and/or title company for the legal asp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ider using the services of a real estate ag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view two or more agents to compare their services and exper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ct the agent to provide a marketing plan and to handle the financial and legal aspects of the s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e with the agent on a regular basis regarding the selling price and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4T19:59:32Z</dcterms:modified>
  <cp:revision>29</cp:revision>
  <dc:subject/>
  <dc:title>lesson three</dc:title>
</cp:coreProperties>
</file>