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C019-F253-4DA9-B093-74AC7F6FE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7F28-136D-4B82-BAFF-A06F99774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6653-5895-4A66-AC8B-0143F51CD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A825-3E32-4849-8D5F-7D441FD9C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deci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13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decision-mak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ecision-making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fy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her information and list possible alterna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ider consequences of each alterna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lect the best course of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valuate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71470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ctors that can influence a decision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is important to your family, others in your cultur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ople you kn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ssure for positive or negative behavi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are accustomed to doing 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lings (love, anger, frustration, ambivalence, reje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. Fami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family’s prefer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other family members have m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. Risks and consequ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w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lo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.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4456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decision-making strateg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first option that comes to mind; giving little or no consideration to the consequences of the cho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ing along with family, school, work, or peer expecta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ra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tponing thought and action until options are limi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oniz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mulating so much information that analyzing the options becomes overwhelm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n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an option that will be both intellectually and emotionally satisf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might achieve the best result, regardless of the risk inv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is most likely to avoid the worst possible resul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will bring some success, offend the fewest people, and pose the least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has a good chance to succeed and that you like the b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7117920" y="6323400"/>
            <a:ext cx="160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s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conomic influences on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pr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es in the buying power of the dollar, inflation/def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spen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mand for goods and servi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oss domestic product (GD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value of goods and services produced within the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using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new homes being bui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 of borrowing mon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19360" y="14475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ey supp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vailable for spending in the ec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ck market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uch as the Dow Jones averages, Standard &amp; Poor’s 500) indicate general trends in the value of U.S. sto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emplo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people without employment who are willing to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57200" y="914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economic factors may influence personal and financial decisions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3268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isks associated with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is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s that may create a less-than-desirable situation. Personal risk may come in the form of inconvenience, embarrassment, safety, 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alth concer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lation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sing prices cause lower buying power. Buying an item later may mean a higher pr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-rat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interest rates affect your costs (when borrowing) and your benefits (when saving or invest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193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m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careers or reduced spending by consumers can result in a lower income or loss of one’s employment. Career changes or job loss can result in a lower income and reduced buying p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quidity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ain types of savings (certificates of deposit) and investments (real estate) may be difficult to convert to cash quick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ks are associated with every decision. The following are common risks related to personal and financial decision-making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opportunity costs and the time value of mone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portunity co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s to what a person gives up when a decision is made. This cost, also called a trade-off, may involve one or more of your resources (time, money, and effort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involve time, health, or energy. For example, time spent on studying usually means lost time for leisure or working. However, this trade-off may be appropriate since your learning and grades will likely improv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nci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olve monetary values of decisions made. For example, the purchase of an item with money from your savings means you will no longer obtain interest on those fund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value of money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used to measure financial opportunity costs using interest calcul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exampl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nding $1,000 from a savings account paying 4 percent a year means a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y cost of $40 in lost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lcul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,000 x .04 (4 percent) x 1 year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 10 years, that $40 a year (saved at 4 percent) would have a value of over $480 whe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king into account compou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14960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8-21T21:01:32Z</dcterms:modified>
  <cp:revision>32</cp:revision>
  <dc:subject/>
  <dc:title>lesson three</dc:title>
</cp:coreProperties>
</file>