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o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rt of budge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budgeting proces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hase 1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sess your personal and financial situation (needs, values, life situation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hase 2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t personal and financial go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hase 3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reate a budget for fixed and variable expenses based on projected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hase 4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nitor current spending (saving, investing) patter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hase 5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are your budget to what you have actually sp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hase 6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 financial progress and revise budgeted amou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05528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goal-setting guidelin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ell-written personal and financial goals SHOULD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 realist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tudent working part-time is not likely to be able to afford a new car every couple of ye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 specif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 want to save $5,000 for a down payment to buy a house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ve a timefra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 want to pay off my credit card within the next 18 months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 the action to be tak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 want to start an automatic deposit savings account with monthly withdrawals from m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 account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tting up and maintaining a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6976080" y="6323400"/>
            <a:ext cx="173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C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143000" y="1008000"/>
          <a:ext cx="6858000" cy="4572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com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dge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incom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pens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dge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764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regular expens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dit card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irregular expens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od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tiliti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tting up and maintaining a budget 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989760" y="6323400"/>
            <a:ext cx="1738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C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43000" y="1143000"/>
          <a:ext cx="6858000" cy="429912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pens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udge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764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and oi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and toll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cal expens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usehold item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itio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hool expens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expens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18T17:25:29Z</dcterms:modified>
  <cp:revision>27</cp:revision>
  <dc:subject/>
  <dc:title>lesson three</dc:title>
</cp:coreProperties>
</file>